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9B1-7A53-40CC-A62F-ABF6F00FC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4EAB-F8E2-42F2-8844-90948355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3A56-08AC-43D1-87CD-6E6043B39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E926-E871-405A-BDC0-0667C4528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6CDB-9498-44F9-A7AA-7A47B3D7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9D6B-BA18-454A-A7C7-2F51E8D27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C6D5-A6CF-4F79-9268-F43F8967A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5FC0-C64C-4225-8538-EE8F475B0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237F-099D-4C1A-A5E1-5C3CAB4B9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A1C5-8C8F-4011-B6A9-1B759C47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B18A-6314-4EAE-8308-73514570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05840-FCD7-4C90-88B1-A65BC6DA6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12E66-7092-4C09-BF5C-4597C9907C3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Drug Induced Liver Injury</a:t>
            </a:r>
            <a:br>
              <a:rPr sz="4000"/>
            </a:br>
            <a:br>
              <a:rPr sz="40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FDA, PhRMA, AASLD Symposium</a:t>
            </a:r>
            <a:br>
              <a:rPr sz="2400"/>
            </a:b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January 28, 2005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47239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obert J. Fontana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iversity of Michigan Medical School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is a diagnosis of exclusion based on circumstantial evidence due to lack of objective confirmatory lab test, rechallenge, or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“GOLD”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standar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quires a high index of suspicion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 diagnosis is usually retrosp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challenge requires follow-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53352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DR:  Causality Assessmen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495680" y="1828800"/>
            <a:ext cx="388620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Defini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Highly 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rob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Unlik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●   </a:t>
            </a:r>
            <a:r>
              <a:rPr b="1" lang="en-US" sz="2800" spc="-1" strike="noStrike">
                <a:solidFill>
                  <a:srgbClr val="ffffff"/>
                </a:solidFill>
                <a:latin typeface=""/>
              </a:rPr>
              <a:t>Excluded /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295280" y="1905120"/>
          <a:ext cx="1599840" cy="3504600"/>
        </p:xfrm>
        <a:graphic>
          <a:graphicData uri="http://schemas.openxmlformats.org/drawingml/2006/table">
            <a:tbl>
              <a:tblPr/>
              <a:tblGrid>
                <a:gridCol w="1599840"/>
              </a:tblGrid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f5f5f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70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7" name=""/>
          <p:cNvSpPr/>
          <p:nvPr/>
        </p:nvSpPr>
        <p:spPr>
          <a:xfrm>
            <a:off x="2971800" y="1828800"/>
            <a:ext cx="1219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: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Generic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ayesi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ver specifi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pert opinio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sse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af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usality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sessment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M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thod (RUCAM) ‘8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nical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agnostic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ale (CDS)  ‘9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LIN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Causality Instru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fic- Low probability in non-drug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produc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tent validity- weighting is evidence base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on validity- “Gold Standard”  expert pan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crimination- a semi-quantitative estimat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lidated in independent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eneralizability- Young vs old, mild vs severe, hepatocellular vs cholestatic, normal vs abnormal baseline LFT’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ase of u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</a:t>
            </a:r>
            <a:br>
              <a:rPr sz="4400"/>
            </a:b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relationship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urs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sk factor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omitant dru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-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/ informatio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-52272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-challeng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2 to 3)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Score (-8 to 14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ly probable &gt;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3-5  Excluded ≤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e 6-8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likely 1-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22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1295280"/>
            <a:ext cx="914400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40480" y="6324480"/>
            <a:ext cx="323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Times New Roman"/>
              </a:rPr>
              <a:t>J Clin Epidemiol 1993;46:1323-13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UCAM limi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mbiguous instr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riteria for competing cause/drug not cle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Onset &gt; 30 days after d/c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e.g. Augmenti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rived from expert opinion rather than prospectively collected data se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ed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verweighting of rechallen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linical Diagnostic Scal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mporal assoc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initi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1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om cess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rmaliz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n-drug caus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hepatic manifestation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hallen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0 to 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or report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(-3 to 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5181480"/>
            <a:ext cx="751824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e701"/>
                </a:solidFill>
                <a:uFillTx/>
                <a:latin typeface="Arial"/>
              </a:rPr>
              <a:t>Score (- 9 to 2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e &gt; 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sible 10-13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luded &lt;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able 14-1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likely  6-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471720" y="6324480"/>
            <a:ext cx="23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1997;26: 664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28 Spanish cases ’94-’00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Gold standard:  Expert panel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318360" y="63244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23880" y="1981080"/>
            <a:ext cx="624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36640" y="2322360"/>
            <a:ext cx="8321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46280" y="2398680"/>
            <a:ext cx="2835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220968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 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Exclud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2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2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nlik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4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os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8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b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1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        30          43  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finit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    5           40         53       </a:t>
            </a:r>
            <a:r>
              <a:rPr b="1" lang="en-US" sz="2800" spc="-1" strike="noStrike">
                <a:solidFill>
                  <a:srgbClr val="ffe701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859440" y="56386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 = 0.2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2320" y="5638680"/>
            <a:ext cx="235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* 30 non-drug c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DS vs RUCAM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CAM performed better overall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DS performed poorly i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layed onset (&gt; 15 day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longed recovery (Cholestasi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LF/ Death (6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S:       6 possible  7 unlikely/ exclu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CAM: 6 definite    6 probable 1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diosyncratic (7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02520" y="6259680"/>
            <a:ext cx="242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atology 2001; 33: 123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2280" y="1600200"/>
            <a:ext cx="876312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0284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To collect biological samples from bonafide cases and controls to study pathogenesis using biochemical, serological and genetic techniqu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2064"/>
              </a:spcBef>
              <a:buSzPct val="10284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To develop standardized instruments, definitions, and terminology for drug and CAM induced liver injury 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en-US" sz="3300" spc="-1" strike="noStrike">
                <a:solidFill>
                  <a:srgbClr val="ffcc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5440" y="0"/>
            <a:ext cx="6716520" cy="1096920"/>
          </a:xfrm>
          <a:prstGeom prst="rect">
            <a:avLst/>
          </a:prstGeom>
          <a:solidFill>
            <a:srgbClr val="cc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Drug Induced Liver Injury Network Objective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765440" cy="14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-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pidemi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fferential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instr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U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LIN net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lusion crite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ge &gt;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injury due to a drug or CAM within 6 months of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n 2 consecutive blood dra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T/ ALT &gt;  5 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k phos &gt; 2X ULN or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 bilirubin &gt; 2.5 mg/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Prospective stud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clusion criteri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etaminophen hepatotoxic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liver transpla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-existing AIH, PSC, PBC which may confound ability to diagnos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ronic HBV, HCV allow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: Baseline visi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All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AV (Ig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sAg, HBc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A, Sm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nospo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ver ultrasou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ruloplasmin ( &lt; 5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 (Cholestati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B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V D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BeAg, HBe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DV A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hronic HCV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CV R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ausality committe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 site PI’s, 1 DCC, 1 NI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 independent reviewers per c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te PI and 2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view clinical narrative, subset CRF,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ssess causality, RUCAM, Data completeness checkl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ference call if not unanimou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linical Narrativ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68580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tailed medication hx/ compli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omitant meds/ C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M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c/ fam h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hysical ex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ver enzymes &amp; lab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agnostic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ntral path re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utco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N Causality assessme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e701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Likelihood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 u="sng">
                <a:solidFill>
                  <a:srgbClr val="ffe701"/>
                </a:solidFill>
                <a:uFillTx/>
                <a:latin typeface="Arial"/>
              </a:rPr>
              <a:t>Categ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gt; 95%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efin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75 -95%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50 -75%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b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5 -50%       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ossi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&lt; 25%                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Unlikel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Causality Assessment in 2005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eed Bonafide cases of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Features ? Risk factors ? Mechanism ? Outc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rveillance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mproved causality assessment instr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y data, sensitive/ specific, valid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friendly, widely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bjective lab test to confirm diagn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Lymphocyte proliferation assays/ biomark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 Genetic susceptibility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ference database for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287 Japanese DILI cases ’78-’02</a:t>
            </a:r>
            <a:br>
              <a:rPr sz="4000"/>
            </a:b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55% hepatocellular 24% mixed 22% cholestatic</a:t>
            </a:r>
            <a:endParaRPr b="0" lang="en-US" sz="24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85800" y="1447920"/>
          <a:ext cx="8018640" cy="422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8018640" cy="422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6242040" y="6324480"/>
            <a:ext cx="26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Hep Research 2003: 27: 19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60440" y="5638680"/>
            <a:ext cx="5810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tency &gt; 15 or 30 d changed, other drugs omitted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+ DLST = +2  Eosinophils &gt; 6% = +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Fulminant DILI in the U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38 DILI ALF LT recipients (15%) ’90-’0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an age 35  75% female 70% Cau 26% A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7% INH  9 % PTU  7% dilantin  7% valproat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40 DILI (13%) ALFSG ’98-’0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ed age 41  72% female  58% Cau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7% antibiotics 10% troglitazone 10% bromfen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spont survival  53% transpl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88320" y="6340320"/>
            <a:ext cx="285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nn Intern Med 2002: 137: 947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Liver Transp 2004; 10: 1018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ccffff"/>
                </a:solidFill>
                <a:uFillTx/>
                <a:latin typeface="Arial"/>
              </a:rPr>
              <a:t>Spectrum of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295280" y="1752480"/>
            <a:ext cx="6248520" cy="4239360"/>
            <a:chOff x="1295280" y="1752480"/>
            <a:chExt cx="6248520" cy="4239360"/>
          </a:xfrm>
        </p:grpSpPr>
        <p:grpSp>
          <p:nvGrpSpPr>
            <p:cNvPr id="47" name=""/>
            <p:cNvGrpSpPr/>
            <p:nvPr/>
          </p:nvGrpSpPr>
          <p:grpSpPr>
            <a:xfrm>
              <a:off x="1295280" y="1752480"/>
              <a:ext cx="6248520" cy="4191120"/>
              <a:chOff x="1295280" y="1752480"/>
              <a:chExt cx="6248520" cy="4191120"/>
            </a:xfrm>
          </p:grpSpPr>
          <p:sp>
            <p:nvSpPr>
              <p:cNvPr id="48" name=""/>
              <p:cNvSpPr/>
              <p:nvPr/>
            </p:nvSpPr>
            <p:spPr>
              <a:xfrm>
                <a:off x="1295280" y="1752480"/>
                <a:ext cx="6248520" cy="4191120"/>
              </a:xfrm>
              <a:prstGeom prst="triangle">
                <a:avLst>
                  <a:gd name="adj" fmla="val 50000"/>
                </a:avLst>
              </a:prstGeom>
              <a:solidFill>
                <a:srgbClr val="3366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2133720" y="1752480"/>
                <a:ext cx="4572000" cy="3048120"/>
              </a:xfrm>
              <a:prstGeom prst="triangle">
                <a:avLst>
                  <a:gd name="adj" fmla="val 50000"/>
                </a:avLst>
              </a:prstGeom>
              <a:solidFill>
                <a:srgbClr val="008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3048120" y="1752480"/>
                <a:ext cx="2743200" cy="1828800"/>
              </a:xfrm>
              <a:prstGeom prst="triangle">
                <a:avLst>
                  <a:gd name="adj" fmla="val 50000"/>
                </a:avLst>
              </a:prstGeom>
              <a:solidFill>
                <a:srgbClr val="ff00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2819520" y="2436840"/>
              <a:ext cx="3200400" cy="11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ALF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(Death, Txp)</a:t>
              </a:r>
              <a:br>
                <a:rPr sz="2300"/>
              </a:br>
              <a:r>
                <a:rPr b="1" lang="en-US" sz="2300" spc="-1" strike="noStrike">
                  <a:solidFill>
                    <a:srgbClr val="ffffff"/>
                  </a:solidFill>
                  <a:latin typeface="Arial"/>
                </a:rPr>
                <a:t>0.0001 - 0.01%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048120" y="3613320"/>
              <a:ext cx="2819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mptomatic diseas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01 - 1.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14600" y="4800600"/>
              <a:ext cx="38862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ild liver injur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(ALT &lt; 3X ULN)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0.1 - 10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DILI Population based study</a:t>
            </a:r>
            <a:br>
              <a:rPr sz="4000"/>
            </a:br>
            <a:r>
              <a:rPr b="1" lang="en-US" sz="2800" spc="-1" strike="noStrike">
                <a:solidFill>
                  <a:srgbClr val="ccffff"/>
                </a:solidFill>
                <a:latin typeface="Arial"/>
              </a:rPr>
              <a:t>81,300 French ’97-’00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5 suspected ca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4 probable DIL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5% antibiotics 23% psychotropic 13% antilip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0% outpati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 (7%) deaths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cidence: </a:t>
            </a: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14 to 24 per 100,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,000 annual cases, 500 death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6 X &gt; than ADR surveill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09240" y="633564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(Hepatology 2002; 36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Manifestation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cute cholesta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hronic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atty liver/ N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ranulomatous disea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brosis/ cirrh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anishing bile du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VOD, pelio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Benign &amp; malignant neoplas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DILI  Diagnos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mporal relation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 dose rela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? Clinical risk fa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iochemical injury patte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gnature” vs prote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ior reports/ c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clude other likely cau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mprovement with discontin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cute DIL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Hepatocellular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gt; 5 and ALT &gt; 2x ULN or base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Cholestatic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R &lt; 2 and Alk &gt; UL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e70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701"/>
                </a:solidFill>
                <a:latin typeface="Arial"/>
              </a:rPr>
              <a:t>Mixed: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2&lt; R &lt; 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15600" y="5715000"/>
            <a:ext cx="451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= (ALT/ULN)/ (Alk / UL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5440" y="6248520"/>
            <a:ext cx="28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J Hepatol 1990; 11: 27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ccffff"/>
                </a:solidFill>
                <a:uFillTx/>
                <a:latin typeface="Arial"/>
              </a:rPr>
              <a:t>Acute hepatitis: Differential Dx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838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ltrasound/ 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286000" y="1371600"/>
            <a:ext cx="190512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800600" y="1371600"/>
            <a:ext cx="205740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752480"/>
            <a:ext cx="327672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al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, B, C, CMV, EB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V, HS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52480" y="1676520"/>
            <a:ext cx="609840" cy="0"/>
          </a:xfrm>
          <a:prstGeom prst="line">
            <a:avLst/>
          </a:prstGeom>
          <a:ln w="28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00800" y="160020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+ +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5486040" y="2057400"/>
            <a:ext cx="114300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943600" y="2819520"/>
            <a:ext cx="1981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AFP, MR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05520" y="3429000"/>
            <a:ext cx="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5120" y="2590920"/>
            <a:ext cx="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6172200"/>
            <a:ext cx="167652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e701"/>
                </a:solidFill>
                <a:latin typeface="Arial"/>
              </a:rPr>
              <a:t>Dru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5715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2819520"/>
            <a:ext cx="3733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immune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SPEP, ANA, SmA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4290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4648320"/>
            <a:ext cx="3429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abolic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Iron, TIBC, ferritin, ceruloplasmin, SPE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5120" y="4419720"/>
            <a:ext cx="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3733920"/>
            <a:ext cx="3429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chemia</a:t>
            </a:r>
            <a:br>
              <a:rPr sz="20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History, 2D-Ech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162920" y="2133720"/>
            <a:ext cx="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343400" y="2819520"/>
            <a:ext cx="1600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F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6324480" y="3809880"/>
            <a:ext cx="45720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543800" y="1905120"/>
            <a:ext cx="76212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003160" y="2793960"/>
            <a:ext cx="9669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li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ERCP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3440" y="449568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serve/ biops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Idiopathic Hepatiti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2 hospitalizations/ 1,000,000 medicaid- pt yrs for idiopathic acute hepatiti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CV not excluded (’80-’87) *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cute “non-A, non-B” hepatit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- 8% of post-Txf hepatit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17% of ALF is indetermin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554440" y="6324480"/>
            <a:ext cx="30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Arch Intern Med 1993; 153: 133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3T21:56:55Z</dcterms:created>
  <dc:creator>University of Michigan</dc:creator>
  <dc:description/>
  <dc:language>en-US</dc:language>
  <cp:lastModifiedBy>University of Michigan</cp:lastModifiedBy>
  <dcterms:modified xsi:type="dcterms:W3CDTF">2005-01-26T00:12:32Z</dcterms:modified>
  <cp:revision>32</cp:revision>
  <dc:subject/>
  <dc:title>Causality Assessment in Drug Induced Liver Injury  FDA, Pharma, AASLD Symposium January 28, 2005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007655131</vt:r8>
  </property>
  <property fmtid="{D5CDD505-2E9C-101B-9397-08002B2CF9AE}" pid="3" name="_AuthorEmail">
    <vt:lpwstr>PAULSL@cder.fda.gov</vt:lpwstr>
  </property>
  <property fmtid="{D5CDD505-2E9C-101B-9397-08002B2CF9AE}" pid="4" name="_AuthorEmailDisplayName">
    <vt:lpwstr>Pauls, Lana L</vt:lpwstr>
  </property>
  <property fmtid="{D5CDD505-2E9C-101B-9397-08002B2CF9AE}" pid="5" name="_EmailSubject">
    <vt:lpwstr>Couldn't remember if I had sent these . . .</vt:lpwstr>
  </property>
</Properties>
</file>