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6364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624360" y="18187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292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6364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624360" y="4173120"/>
            <a:ext cx="291456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502920" y="309960"/>
            <a:ext cx="9052200" cy="601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1520" y="41731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9960"/>
            <a:ext cx="9052200" cy="12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5000" spc="-1" strike="noStrike">
              <a:solidFill>
                <a:srgbClr val="66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1520" y="1818720"/>
            <a:ext cx="4417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2920" y="4173120"/>
            <a:ext cx="9052200" cy="214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9372600" y="7167600"/>
            <a:ext cx="45720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5D6BD-CEAB-4E49-ADFE-D99EB8D5678B}" type="slidenum">
              <a:rPr b="1" lang="en-US" sz="2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1" i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77"/>
          <p:cNvSpPr/>
          <p:nvPr/>
        </p:nvSpPr>
        <p:spPr>
          <a:xfrm>
            <a:off x="1371600" y="3276720"/>
            <a:ext cx="731520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 Narrow"/>
              </a:rPr>
              <a:t>THIS TEXT WILL BECOME NOT BOLD AND ITALIC</a:t>
            </a:r>
            <a:endParaRPr b="1" i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77"/>
          <p:cNvSpPr/>
          <p:nvPr/>
        </p:nvSpPr>
        <p:spPr>
          <a:xfrm>
            <a:off x="685800" y="762120"/>
            <a:ext cx="8839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1T14:39:41Z</dcterms:created>
  <dc:creator>DePol, Jacobs, &amp; Massman-Johnson</dc:creator>
  <dc:description>©2008 Lasting Impact©2008 Polarity Management</dc:description>
  <cp:keywords/>
  <dc:language>en-US</dc:language>
  <cp:lastModifiedBy>Eric Hamacher</cp:lastModifiedBy>
  <cp:lastPrinted>2007-12-05T23:03:56Z</cp:lastPrinted>
  <dcterms:modified xsi:type="dcterms:W3CDTF">2008-06-03T18:19:30Z</dcterms:modified>
  <cp:revision>1119</cp:revision>
  <dc:subject>Lasting Impact &amp; PMA Organization Fitness Check-Up</dc:subject>
  <dc:title>PowerPoint Presentation</dc:title>
</cp:coreProperties>
</file>