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73420"/>
        <c:axId val="55601902"/>
      </c:barChart>
      <c:catAx>
        <c:axId val="32573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01902"/>
        <c:crosses val="autoZero"/>
        <c:auto val="1"/>
        <c:lblAlgn val="ctr"/>
        <c:lblOffset val="100"/>
        <c:noMultiLvlLbl val="0"/>
      </c:catAx>
      <c:valAx>
        <c:axId val="55601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73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2D4-949F-45C5-9771-158D69FA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D70-723D-450A-A134-4BD5CA7D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89D-3A74-44E7-A665-F68A0B1A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984-7C41-45D6-9E36-08C359A7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898-38DE-4E09-9E02-7BC04F13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991-5D75-4FED-B8FE-69B0EF23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0A1-5C34-4531-B47A-123F8F12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31A-F374-4789-8B81-F54BD93B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DA5-0EE1-4F3D-8C6F-748D3830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C5A-E9B8-428A-9CFB-42E18169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469-A078-4BC0-BDD2-D2E060C8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E3A-B1C8-47F6-A012-9DE31C30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7E21E-2FEB-4852-A207-4EC043960A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