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84733"/>
        <c:axId val="69690710"/>
      </c:barChart>
      <c:catAx>
        <c:axId val="37284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90710"/>
        <c:crosses val="autoZero"/>
        <c:auto val="1"/>
        <c:lblAlgn val="ctr"/>
        <c:lblOffset val="100"/>
        <c:noMultiLvlLbl val="0"/>
      </c:catAx>
      <c:valAx>
        <c:axId val="69690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84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D3F-94E5-4FB4-82E5-32BA4C2E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062-0FE3-4C4C-BCCD-8197A1AB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E82-7740-43E7-901E-87B64B36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2E6-7DBE-46D0-B238-817B8016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701-F08B-4F95-994E-19D15267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B73-F14E-458F-8776-7245A087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9C1-32EB-436B-B59A-2BC5A41B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FC84-1EE3-4B82-B4CA-2C44929B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1EA-E807-4636-A81B-D39FCFC9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D33-B3B4-4885-B2CA-FB0850E1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556-C4C4-4645-BF20-5B9F3053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6D5-27CB-4B21-92A4-98C624CF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851E8-DC3D-46AC-B120-E52F1A4D51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