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08448"/>
        <c:axId val="40762109"/>
      </c:barChart>
      <c:catAx>
        <c:axId val="3400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2109"/>
        <c:crosses val="autoZero"/>
        <c:auto val="1"/>
        <c:lblAlgn val="ctr"/>
        <c:lblOffset val="100"/>
        <c:noMultiLvlLbl val="0"/>
      </c:catAx>
      <c:valAx>
        <c:axId val="40762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35E-4871-47FE-9CAA-19CFF4A4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2F8-8227-4A85-B6CC-B511D7C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3CF-24BB-4088-9D9B-D7B519FA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599-D2B6-408B-8B0C-ED7E71D6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B19-FF7D-4353-B69B-5C268E1D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6FB-6EFD-4F95-8F8B-39CB61CA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9BD-B8F6-4D13-96BD-8043405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70C-9C7A-4913-8CFC-1D35CA8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BF5-C23E-4253-8837-9B0BA0D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53B-1C4E-474F-BE4F-C52B831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A67-E69C-4BF9-B279-FECB56E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841-6E06-4508-847F-E353EF82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71023-8AEF-462D-A12E-B57A83BE75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