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74221"/>
        <c:axId val="82233540"/>
      </c:barChart>
      <c:catAx>
        <c:axId val="664742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33540"/>
        <c:crosses val="autoZero"/>
        <c:auto val="1"/>
        <c:lblAlgn val="ctr"/>
        <c:lblOffset val="100"/>
        <c:noMultiLvlLbl val="0"/>
      </c:catAx>
      <c:valAx>
        <c:axId val="82233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742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278B-44E7-4FEA-A3B6-B29FE7AE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F45B-E59C-4137-9FD7-CF359AD1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3FC2-4FE5-4097-B703-2501C69A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AD92-EE26-4544-A5EE-60F8AF6D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428-B30C-4A12-9DE5-40AF6881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DA8-C163-48D2-9A30-E2088769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AFB4-54E5-4737-A82A-C8C8AE2E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6A5-D10E-4587-8B80-81F7D0FD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EAB-0B40-4C23-8E87-62B80DF4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D27A-EB16-4012-AC74-666F2BFA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297-E65B-47E2-9502-F559A3A6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0F7-D0FD-4727-9A39-5AC2C085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DA152-ACBA-4896-AB50-D41E23B881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