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812575"/>
        <c:axId val="62227071"/>
      </c:barChart>
      <c:catAx>
        <c:axId val="378125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227071"/>
        <c:crosses val="autoZero"/>
        <c:auto val="1"/>
        <c:lblAlgn val="ctr"/>
        <c:lblOffset val="100"/>
        <c:noMultiLvlLbl val="0"/>
      </c:catAx>
      <c:valAx>
        <c:axId val="622270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8125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7DF6-A73B-4FD4-A57B-02772680B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C442-DDA4-4065-B7A8-5C6682D65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7F38-3EF8-4609-93E2-79770CD40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7613-DF12-458D-909B-2281F63BB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FA9C-C824-43B5-899B-FCF05B119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F085-329F-4017-BA0C-3268398CC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0B99-213A-47A7-917F-446B4D4C8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9977-418D-44DE-92C4-FA1053D03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37E0-BD5B-4E16-9FB0-56410848C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D0B5-8304-4C1B-9F6E-230204AB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6144-5248-40A1-82A6-5CDECF9A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DFF5-018D-4430-938F-0253FAB8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D916B9-1E8B-4BEB-A5AE-136C3ADD840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