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44962"/>
        <c:axId val="22861788"/>
      </c:barChart>
      <c:catAx>
        <c:axId val="78844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61788"/>
        <c:crosses val="autoZero"/>
        <c:auto val="1"/>
        <c:lblAlgn val="ctr"/>
        <c:lblOffset val="100"/>
        <c:noMultiLvlLbl val="0"/>
      </c:catAx>
      <c:valAx>
        <c:axId val="22861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44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E45-BCB7-4189-B8DF-4371C44E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563-1C61-470F-B206-41EFF38A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1E2-1603-4337-A426-D1C89771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CF7-EECA-4C2B-97E6-3BBCD369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6B8-4054-44CC-8EB9-C08CBDBA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B41-1969-433A-AFF0-BDBF6B37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506-41CC-48A3-8553-DCBAC10D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C4F-A72F-43C8-B8F0-D80C092C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CCA-1F82-4F9C-B957-B74BBA4B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085-5C30-4AE2-A5A8-A4D22D0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C1F-7BEE-4698-82B0-881A07D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1E5-4DC6-487F-815A-41354C8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8F138-086F-4ED5-8FA8-604AA87ED1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