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3401"/>
        <c:axId val="87087026"/>
      </c:barChart>
      <c:catAx>
        <c:axId val="2023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87026"/>
        <c:crosses val="autoZero"/>
        <c:auto val="1"/>
        <c:lblAlgn val="ctr"/>
        <c:lblOffset val="100"/>
        <c:noMultiLvlLbl val="0"/>
      </c:catAx>
      <c:valAx>
        <c:axId val="87087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3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3B7-782F-42DC-AC9E-270D61BC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2D8-BA30-485B-8F06-78D1D585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8F0-6D50-4A65-A4A7-FC31004A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F05-A426-4F8D-ABB6-E125746A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905-F277-4ADD-9BD5-FAA1D5AA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43F-4674-4561-BE5E-641BE0B5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1AC-63B4-4352-8D8D-0FA1006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A41-2CB0-4724-BE05-6C79D40E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EC4-0109-4907-9DB3-079BC787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919-7B0A-4E11-8691-C0233C49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A49-BFA3-485A-AEEF-615EFE3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660-F05C-412B-96EF-168CEC7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28B6F-8F2F-4EF6-9F25-F0D8EEE04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