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86983"/>
        <c:axId val="44392100"/>
      </c:barChart>
      <c:catAx>
        <c:axId val="94486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92100"/>
        <c:crosses val="autoZero"/>
        <c:auto val="1"/>
        <c:lblAlgn val="ctr"/>
        <c:lblOffset val="100"/>
        <c:noMultiLvlLbl val="0"/>
      </c:catAx>
      <c:valAx>
        <c:axId val="44392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86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555-976A-4AC1-8A5A-5CB84422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11E-3EA2-42CB-92D2-642E9881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763-97AF-4D4B-92FE-467D5F5A9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60F-B3E0-4D55-A05F-4E44C7B6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A1D6-BBCA-4929-BF25-5418F240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8E2-644C-40AC-9D8A-E053C651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8E1-9E88-4C88-9C62-FAA037DA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4C1-EA7C-4B05-A845-8DBA85D4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5C7-A8AA-479A-8A41-B65DA1D4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86E-58A6-4C37-8867-6FCB860D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7C3-68A7-42F1-AEB0-0F2AF64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5C5-6397-4816-A6DD-331C50CE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7F25F-34C7-4400-ADA1-51B43BC28C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