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06011"/>
        <c:axId val="15338410"/>
      </c:barChart>
      <c:catAx>
        <c:axId val="61406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38410"/>
        <c:crosses val="autoZero"/>
        <c:auto val="1"/>
        <c:lblAlgn val="ctr"/>
        <c:lblOffset val="100"/>
        <c:noMultiLvlLbl val="0"/>
      </c:catAx>
      <c:valAx>
        <c:axId val="15338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06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D0E-5EA0-4407-B8E9-4C592383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67E-5AB4-4953-821E-A3440559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62E-8578-4DBF-A894-5D478DB0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5D2-E31D-4887-95A3-74DB095A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1D8-5D75-4C60-9C41-B93F3415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7DD-DD03-4823-B2D0-6EDDE00B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06A-A5EE-48EC-B81D-44A408F1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638-A020-4EF1-98BF-7C252AB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43B-B538-4EA1-84A0-423722ED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A4B-574E-4812-BA6E-E6198B2F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A12-AEDA-4FA7-84F3-B598454C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6A6-1242-4D28-A7C2-1D922EFE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1147C-EB60-4AED-B3EC-8B890BF651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