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89126"/>
        <c:axId val="64084929"/>
      </c:barChart>
      <c:catAx>
        <c:axId val="339891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84929"/>
        <c:crosses val="autoZero"/>
        <c:auto val="1"/>
        <c:lblAlgn val="ctr"/>
        <c:lblOffset val="100"/>
        <c:noMultiLvlLbl val="0"/>
      </c:catAx>
      <c:valAx>
        <c:axId val="64084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891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C1A-255D-45DB-B722-159050B7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4B4A-26F0-413C-AEF9-D1602B77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DC96-C1D8-4E23-94D9-3E667341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BB2-9A40-485F-AA13-D5C41D3B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FA5E-2A65-4863-91DF-23B7D081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BC7-A811-4FFB-BBCD-FDD20E99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811-9D47-4E16-B892-A8A31DF0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90C-0A2F-423E-ACD2-7D250411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D0F-04D5-4D07-8118-5B8D3CB6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A0DB-7A06-4F27-B536-17125170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1254-C26F-492A-B3D3-B2C17019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708A-8558-4299-9FEC-457363B1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7B88B-14F1-4358-90D8-C9B75905C1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