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089973"/>
        <c:axId val="28144794"/>
      </c:barChart>
      <c:catAx>
        <c:axId val="890899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144794"/>
        <c:crosses val="autoZero"/>
        <c:auto val="1"/>
        <c:lblAlgn val="ctr"/>
        <c:lblOffset val="100"/>
        <c:noMultiLvlLbl val="0"/>
      </c:catAx>
      <c:valAx>
        <c:axId val="281447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0899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17CE-7645-47F9-B156-F4C55F594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BBE9-3B56-4E10-A5A8-080040E3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7DA7-FAEA-4342-8C54-42387D592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D0F2-8C8F-45E1-A35A-693328E42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E9FD-AEDD-4C2C-BDD1-1B13E6DD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8025-FFC1-4411-84E8-C2FAAEEA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10A7-6B48-4178-A148-4B4C161F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20D9-BB24-41A3-A6CA-B5E0E6B0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4F5C-5742-48BE-8545-5D3871F6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66EB-EF61-41D9-9733-CBB7F258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1B43-10C0-4210-88EF-27E24ECD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C0AF-1358-4167-93FC-D1223A73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92AFDF-0973-4F53-AF3B-FCED083C0D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