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99439"/>
        <c:axId val="31028164"/>
      </c:barChart>
      <c:catAx>
        <c:axId val="78499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8164"/>
        <c:crosses val="autoZero"/>
        <c:auto val="1"/>
        <c:lblAlgn val="ctr"/>
        <c:lblOffset val="100"/>
        <c:noMultiLvlLbl val="0"/>
      </c:catAx>
      <c:valAx>
        <c:axId val="31028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9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FA5-4A8C-4B7D-88F9-6EFB4ABE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267-4ED6-4155-A1AF-4735DDA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C56-B102-439E-B4FD-113CF0CD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620-1A37-4B69-809C-F04AFA8D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C14-EE92-4F3A-A09F-87FF922B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98E-E408-4919-86BC-5D6A3BF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3F9-5817-4D8B-980C-A32F492C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011-0732-44BA-82BC-15F85FD7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A3A-96EF-47F8-A7E8-A9AB18BD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D50-756E-491C-A9BC-2FEF81EA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5D7-BD10-4CD6-9DDF-DD9BF24D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14F-4743-429F-B863-59B975F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703CE-676B-4DF7-9BE8-6814E63AFD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