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12440"/>
        <c:axId val="45464813"/>
      </c:barChart>
      <c:catAx>
        <c:axId val="34412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64813"/>
        <c:crosses val="autoZero"/>
        <c:auto val="1"/>
        <c:lblAlgn val="ctr"/>
        <c:lblOffset val="100"/>
        <c:noMultiLvlLbl val="0"/>
      </c:catAx>
      <c:valAx>
        <c:axId val="45464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12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C6A-28F7-4024-A0BC-FB17EE10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0E9-DDD7-4799-8853-F817FDD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34F-300C-4F69-AF1A-B0343641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10C-6691-4CAF-8218-635E41E7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58C-3EC5-485C-8B98-B03F5F9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6E9-820D-4934-AE99-070AA2F7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9AB-E975-44A0-87F4-0E28115C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D45-9B2D-4B18-8DB2-371DD569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2AC-7BF2-46C2-92EA-C3455CF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D9F-71B5-48DF-88C9-7369FE47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711-AFE6-417E-9361-701BC1F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6CA-ECA0-4B3A-86BE-7481CAF3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DF529-DFD3-4A49-897E-F61D0E387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