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881081"/>
        <c:axId val="24872433"/>
      </c:barChart>
      <c:catAx>
        <c:axId val="448810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872433"/>
        <c:crosses val="autoZero"/>
        <c:auto val="1"/>
        <c:lblAlgn val="ctr"/>
        <c:lblOffset val="100"/>
        <c:noMultiLvlLbl val="0"/>
      </c:catAx>
      <c:valAx>
        <c:axId val="248724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8810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DE1F-1CC3-4DBE-8647-14DA11BF0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E070-58B9-4F54-B31C-0F326EA8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F1BA-A240-45CF-B3D9-EF024E080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EB20-CBE6-455F-AE83-A4D2427FB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0484-305D-492D-BF79-1F370A23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1059-48D9-470F-A245-B9B80C95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6870-7A46-4448-BE8C-914F67E0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7E85-E36E-4182-9186-808E79D2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0A2A-C276-4A3A-AF34-2921286A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8781-E63B-4159-AD23-2FB18C60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0F1E-F44B-4C42-9F76-651673C8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0DFD-5A5E-4ED8-B45C-D17CF846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4120EE-3DCC-4259-AFB3-7F3A2C727A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