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16548"/>
        <c:axId val="76511602"/>
      </c:barChart>
      <c:catAx>
        <c:axId val="55616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11602"/>
        <c:crosses val="autoZero"/>
        <c:auto val="1"/>
        <c:lblAlgn val="ctr"/>
        <c:lblOffset val="100"/>
        <c:noMultiLvlLbl val="0"/>
      </c:catAx>
      <c:valAx>
        <c:axId val="76511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16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8E0-3706-435F-9886-AF8D44A5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3B8-DAD7-401D-B20D-79A7862B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1E5-22A1-4D6C-B8A1-83EA52CB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78B-12B5-453E-9A83-EE8D9FF1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7A5-A4F9-4AE5-A364-85A318DC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F31-858A-44BA-B2FB-2A0C43F5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653-E913-4012-8A52-A035B449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229-5C4D-4315-BECF-1343F1C4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36E-89AF-4EA4-81F9-DA6D02BE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5C9-346A-4989-9D97-A8568B48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176-934B-4C3F-9F58-41251A40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065-1536-4B46-8C9F-516DEDCA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69813-EA77-46F2-924F-EA62E79B94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