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64592"/>
        <c:axId val="45022549"/>
      </c:barChart>
      <c:catAx>
        <c:axId val="70764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22549"/>
        <c:crosses val="autoZero"/>
        <c:auto val="1"/>
        <c:lblAlgn val="ctr"/>
        <c:lblOffset val="100"/>
        <c:noMultiLvlLbl val="0"/>
      </c:catAx>
      <c:valAx>
        <c:axId val="4502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4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AF4-8C1B-441C-9A31-3F3F225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88A-BEF1-43D1-93F6-DD08B171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7F0-150C-4E82-961F-83B08936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12A-7D16-493B-8F7A-A1CB2FA1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5C7-FC5F-4092-85DF-8287E99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E124-92BE-437C-88AB-F5918ED8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313-4BBB-4229-94D6-FFC0F4C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7B8-104A-466D-B887-D9C63110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5F4-3073-473D-947E-733102EF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439-1A65-4ECF-BF0A-85BC468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5D3-D101-4343-A462-C3DE5B7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C12E-87E1-420B-9AE1-2EB31ED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10F81-0CE2-40B4-88EC-730B0F345F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