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80120"/>
        <c:axId val="28449028"/>
      </c:barChart>
      <c:catAx>
        <c:axId val="75880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9028"/>
        <c:crosses val="autoZero"/>
        <c:auto val="1"/>
        <c:lblAlgn val="ctr"/>
        <c:lblOffset val="100"/>
        <c:noMultiLvlLbl val="0"/>
      </c:catAx>
      <c:valAx>
        <c:axId val="28449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80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A7F-A320-4BB0-A9E8-9DC347D0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90A-E460-48B7-85B3-2D685168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B58-1D7A-4F2A-AB55-0E0B2942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C81-6292-430A-B67E-E8A16C71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F3B-CBE1-475B-9FAB-5AD851B3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C1D-33B1-4570-AD37-3DA9953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E55-74C0-47DE-A4F0-ECBF956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5A9-F839-4549-BF1B-BA242A6F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FE0-7CC3-4C96-8635-7694C111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12A-6430-4BC2-8964-37B48F1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3C7-D1DA-4F9E-BE16-90311B3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97D-662D-4CEA-9F22-BC98DADE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DC220-D098-437D-BC51-8116CBD53E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