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12244"/>
        <c:axId val="13220518"/>
      </c:barChart>
      <c:catAx>
        <c:axId val="76412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20518"/>
        <c:crosses val="autoZero"/>
        <c:auto val="1"/>
        <c:lblAlgn val="ctr"/>
        <c:lblOffset val="100"/>
        <c:noMultiLvlLbl val="0"/>
      </c:catAx>
      <c:valAx>
        <c:axId val="13220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12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891-FE5B-4D5A-B826-66DB5CFF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81A-B852-41EE-958D-C182A92A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2DC-2ED5-43AC-9E3F-BB946518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051-1BDF-4A3A-B6A9-E720DDCD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B14-6E79-436F-996F-7D6FBFD3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0B7-E22A-44D2-832D-9B9A36F3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E87-9460-42AD-BFB3-9E3ABA57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83D-7196-4688-A86D-5682B6D5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07F-43FC-4A5B-91F2-1C51F5DD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BC3-6C82-48C2-AC0B-53AA14C1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D4A-B04A-47B0-BA79-57BA605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05E-EFFB-4A49-A873-093B01FF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7DE36-874F-484D-AAFA-6602EF3E3F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