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39934"/>
        <c:axId val="84424349"/>
      </c:barChart>
      <c:catAx>
        <c:axId val="52439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24349"/>
        <c:crosses val="autoZero"/>
        <c:auto val="1"/>
        <c:lblAlgn val="ctr"/>
        <c:lblOffset val="100"/>
        <c:noMultiLvlLbl val="0"/>
      </c:catAx>
      <c:valAx>
        <c:axId val="84424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39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D29-F901-4B65-8AE8-E267503C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B6F-DD99-4139-B720-8D7C0594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CBF-857C-4CAE-AED7-B69768B6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81C-22C0-4E19-A716-E5A39414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6CF-FC5A-4F6B-B242-487EE3D8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870-6E0A-4F42-A361-A0274ED3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9E4-9DFC-41B0-99B2-78DF0240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717-951A-480A-9988-4AAAABCB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4A7-A12F-4303-A766-8BB7E3A4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1BE-26BF-41E5-A9C8-753C5FB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754-3933-40A7-BFF6-CE2EA9E0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67A-CA69-46C8-8408-9C85ADC6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579ED-D3B2-4CB1-B905-452074BAE8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