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65942"/>
        <c:axId val="76184241"/>
      </c:barChart>
      <c:catAx>
        <c:axId val="79659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184241"/>
        <c:crosses val="autoZero"/>
        <c:auto val="1"/>
        <c:lblAlgn val="ctr"/>
        <c:lblOffset val="100"/>
        <c:noMultiLvlLbl val="0"/>
      </c:catAx>
      <c:valAx>
        <c:axId val="761842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659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9265-CA86-400C-A02E-E74D6CFC4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17D4-650E-4216-9F37-CA5A72BC6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B607-01FA-47B1-A0A6-050AF5B66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9F37-9D89-462D-853B-93FA0ECC2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A06B-BBF4-495A-8ACD-7A8273998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EEB3-AF38-44FB-8B04-5FD9D79AF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6C44-F1AE-41DB-BC2D-00AC58F6E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7CF3-84E4-4E5D-970D-2F3F234CC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D458-744C-41F9-ACC2-767826EC2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8E3E-E21D-423C-B142-90869F99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8C01-1C22-41CB-8638-18BB7CAA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329B-5A33-4318-8489-6AA34695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268773-75B3-4DF0-A002-16E210100E1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