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469469"/>
        <c:axId val="39379408"/>
      </c:barChart>
      <c:catAx>
        <c:axId val="65469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79408"/>
        <c:crosses val="autoZero"/>
        <c:auto val="1"/>
        <c:lblAlgn val="ctr"/>
        <c:lblOffset val="100"/>
        <c:noMultiLvlLbl val="0"/>
      </c:catAx>
      <c:valAx>
        <c:axId val="393794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69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00D-D376-40FA-B8F4-7EE81572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D41B-57D1-4FB7-BF18-B652E28B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B8B0-DD24-4058-AA8E-FD437CD8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E56-DA59-429D-8C94-C2F11C37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A2C-26A0-4BF5-82D2-78954427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83A-3315-4736-B34F-2CA904FB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F5F1-B37D-4FB0-9E11-8C59D843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6DE-A310-4CC8-A41B-259B7C92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7D0-896C-4134-B6AF-98336FE7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FA50-8746-4EE6-8D35-DB8CD04F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F81-308E-40AC-A069-43CC5410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AFC-0334-498B-ADF0-E768D285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7BD94-5AF0-49CB-88B2-4BAE35CA7E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