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94406"/>
        <c:axId val="3193856"/>
      </c:barChart>
      <c:catAx>
        <c:axId val="551944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3856"/>
        <c:crosses val="autoZero"/>
        <c:auto val="1"/>
        <c:lblAlgn val="ctr"/>
        <c:lblOffset val="100"/>
        <c:noMultiLvlLbl val="0"/>
      </c:catAx>
      <c:valAx>
        <c:axId val="3193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944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4A6-208B-40AC-B2FB-8FF74417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6863-0936-4185-8D91-EB517DA4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A86-9B85-4389-A58F-EFBA3F61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7224-4F41-4846-9FFA-3B4A630C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030-52D0-467F-8AFC-279A8B4C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D0ED-CE9D-4237-B6D2-A57308A3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541-C727-4864-9CD2-3B5C743E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34F8-0F5F-4766-9CC6-832BD8C2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EDE-36C3-4270-A2E1-0B4B7B4E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05C-CC9B-4245-A241-6353DA66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DC94-D182-406E-ADAF-5DBF72CE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44E-2789-477A-8961-D21CD73D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919EA-C846-417B-AFB0-55EB3A81E8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