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72911"/>
        <c:axId val="3627745"/>
      </c:barChart>
      <c:catAx>
        <c:axId val="96272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745"/>
        <c:crosses val="autoZero"/>
        <c:auto val="1"/>
        <c:lblAlgn val="ctr"/>
        <c:lblOffset val="100"/>
        <c:noMultiLvlLbl val="0"/>
      </c:catAx>
      <c:valAx>
        <c:axId val="362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2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62B-2DB2-4859-AB40-6A21757F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DAC-9945-4346-B141-67A9B75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191-65CF-4132-B006-6DA173B5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20F-C411-461F-9910-FACC63F5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F18-ABE6-4CAA-BBF9-0162CC10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FF1-18B1-4F4C-8F70-63A84E3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414-8673-4474-9578-BFD2C6E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C55-3D2F-4C1D-8ED3-9BC35A68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60E-9480-4D0E-A567-020CD63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4EF-B6FE-49F7-BFEB-98AF1E8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2F-B31E-4B00-A9B5-66A6AC0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2CF-258C-4335-BA59-A688863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C320-69C0-4F58-90FF-886E2420D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