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13956"/>
        <c:axId val="72573004"/>
      </c:barChart>
      <c:catAx>
        <c:axId val="84013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73004"/>
        <c:crosses val="autoZero"/>
        <c:auto val="1"/>
        <c:lblAlgn val="ctr"/>
        <c:lblOffset val="100"/>
        <c:noMultiLvlLbl val="0"/>
      </c:catAx>
      <c:valAx>
        <c:axId val="72573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13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92E-822B-4953-A77C-14BFB0B4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802-3D65-44AA-8AFA-42970D44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CF4-D57E-4599-BD31-16C667E8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6BB-DA03-48EE-9B9E-44B1BB3D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7D8-1373-417B-BD20-4B164FF6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BEC-F52C-464B-9223-D0E7891A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BF9-DD78-489A-94C0-7F5ED71E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BC4-820D-4AF6-812B-FE7BC0A7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4AE-DA91-4331-BCBF-00993D7D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271-3F0C-467A-A2A3-6F47D944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9A1-D7F6-464E-958B-60029422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521-289D-439D-99B9-50EAE366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99F41-54EB-477D-A599-08EF3CEA89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