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81240"/>
        <c:axId val="16637569"/>
      </c:barChart>
      <c:catAx>
        <c:axId val="86381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37569"/>
        <c:crosses val="autoZero"/>
        <c:auto val="1"/>
        <c:lblAlgn val="ctr"/>
        <c:lblOffset val="100"/>
        <c:noMultiLvlLbl val="0"/>
      </c:catAx>
      <c:valAx>
        <c:axId val="16637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81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766-4DFC-4135-9BDA-13D75C72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829-87DE-4F91-B060-4619A026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285-1A3C-4215-A6C5-BDE70B3B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76C-CEB7-4D53-BAB2-01C78C62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EFF-E763-4453-B220-EC7BD7B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EBE-28D1-40A9-BC06-E30842D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160-6957-44DB-B4D3-388C00C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0DD-BC6B-4CDC-ACAF-E9B5285B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AE9-1D2A-48A7-B2CC-FDF76469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36A-44B4-46A8-ADF7-1CCAF11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08B-BA28-4E30-BD17-12EA91C8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A16-2EEB-43CB-BFBF-EFAE2DF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3A920-BD69-44ED-8369-1B2411E803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