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15836"/>
        <c:axId val="82248220"/>
      </c:barChart>
      <c:catAx>
        <c:axId val="30015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8220"/>
        <c:crosses val="autoZero"/>
        <c:auto val="1"/>
        <c:lblAlgn val="ctr"/>
        <c:lblOffset val="100"/>
        <c:noMultiLvlLbl val="0"/>
      </c:catAx>
      <c:valAx>
        <c:axId val="82248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15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70D-888F-4746-B31F-A45DD964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9BB-46BA-4BE7-A0F1-9EBE8F5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BC7-8059-4CFC-BB36-FA81689D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184-0263-4459-92A8-C51AB760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C6A-28E8-4EFD-A638-E6BBFCB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B8D-228B-4E71-A53B-D7190644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366-CDA3-4A5A-94CE-429C2F55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10A-9AE3-459B-8D87-C9DB424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05E-2EF0-4170-97FC-F220F0F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70A-49A8-4DCC-9227-ECB8184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B92-FED2-41A8-B17E-045295D1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725-5B8E-4355-8CD7-B924E69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64A49-73BB-4FB7-9530-797785518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