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88543"/>
        <c:axId val="50559849"/>
      </c:barChart>
      <c:catAx>
        <c:axId val="82788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59849"/>
        <c:crosses val="autoZero"/>
        <c:auto val="1"/>
        <c:lblAlgn val="ctr"/>
        <c:lblOffset val="100"/>
        <c:noMultiLvlLbl val="0"/>
      </c:catAx>
      <c:valAx>
        <c:axId val="50559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88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571-569F-4568-94B2-C1A7A77F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5A2-30A8-4C09-B3A4-EE06285A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1A5-FD9E-436D-9071-2DF90CF1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626-02E0-43A2-B97D-55D70797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1FC-1DFC-489B-94F6-ACB3CE81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786-913C-4996-B743-C6186897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7E0-7C9E-49B3-863E-9B99F880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397-6F1D-44A8-B2F4-ED719607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FDF-5A05-4A15-960D-3673D8FB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347-958D-46FE-9B49-F17FA49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A74-F229-4FB7-8040-85FE4716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3CB-4400-4092-909C-47FE4BB3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85415-0A97-4DAF-BCD9-5678F24F1C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