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531618"/>
        <c:axId val="945539"/>
      </c:barChart>
      <c:catAx>
        <c:axId val="175316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539"/>
        <c:crosses val="autoZero"/>
        <c:auto val="1"/>
        <c:lblAlgn val="ctr"/>
        <c:lblOffset val="100"/>
        <c:noMultiLvlLbl val="0"/>
      </c:catAx>
      <c:valAx>
        <c:axId val="9455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316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B74-3B7E-40AF-926C-C27AF027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4DA-6319-4199-8846-16277458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1FE-6FB0-44E1-9626-B5AAC9C6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248-DC4C-4BE9-BF65-5001FA0A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9EB-FAFF-4B59-8A7D-E868480E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9B9-58A1-44FF-BE24-CD5778C6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80D-1C2E-4576-B02A-A2F9244D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ED2-F92A-4869-B7F0-2E14CC33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7F07-CE73-44A3-9FE8-3C5264A9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7F29-3FCB-46C0-9C58-1A90537E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C71-B51C-4789-BCDF-4C77556E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E6B-47BA-4A96-BABE-4BDB3887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93FA1-8248-4F63-BBE7-61234522FF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