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89786"/>
        <c:axId val="4292651"/>
      </c:barChart>
      <c:catAx>
        <c:axId val="98289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651"/>
        <c:crosses val="autoZero"/>
        <c:auto val="1"/>
        <c:lblAlgn val="ctr"/>
        <c:lblOffset val="100"/>
        <c:noMultiLvlLbl val="0"/>
      </c:catAx>
      <c:valAx>
        <c:axId val="4292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89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769-7CB2-4D85-86F8-B36B0C16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7BB-C0F7-4BD4-9F3A-DF82831E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3ED-2B99-4B84-9184-2619DD16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7F9-FD1F-466C-8C59-7D933155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29C-7DD1-4D96-A1F5-B2BFEC37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A8B-5DC1-41B5-93FF-302C5263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464-D3A0-404E-B579-4A9D51C3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1A3-F5C3-4746-9D7F-94C36F27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2B2-8259-42F0-AD78-C93DB075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FD4-52CC-4922-9D31-61250C53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FA9-80A7-4DE5-8E7B-DC4A9C2D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BA5-1180-4641-AEA2-1736DCC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51340-9972-4585-8F2D-17927EEA8F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