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01273"/>
        <c:axId val="92893419"/>
      </c:barChart>
      <c:catAx>
        <c:axId val="48801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93419"/>
        <c:crosses val="autoZero"/>
        <c:auto val="1"/>
        <c:lblAlgn val="ctr"/>
        <c:lblOffset val="100"/>
        <c:noMultiLvlLbl val="0"/>
      </c:catAx>
      <c:valAx>
        <c:axId val="92893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01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A5D-C888-4454-A223-82721DCC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F09-D797-4025-A93D-51C47761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9E5-6B3D-429A-B616-942768A6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C54-80D8-4A1C-A77E-DA926E11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557-4DE6-4C18-B961-770BE834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3BB-8F40-4029-9723-A8334DD9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6E8-7C1B-4FE6-BAD5-E9CE18A2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5A3-F9ED-4052-8E34-E515589A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58E-8F73-4073-BDE7-13E32A59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25C-6FD9-4397-9BA1-03A19A30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53E-9FCB-4A81-B62D-983FD88D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36E-6D7B-4278-ACE8-A0A31DA9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F0BF2-FE63-48E4-A73C-12B63BD833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