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5828"/>
        <c:axId val="90952050"/>
      </c:barChart>
      <c:catAx>
        <c:axId val="8875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52050"/>
        <c:crosses val="autoZero"/>
        <c:auto val="1"/>
        <c:lblAlgn val="ctr"/>
        <c:lblOffset val="100"/>
        <c:noMultiLvlLbl val="0"/>
      </c:catAx>
      <c:valAx>
        <c:axId val="90952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5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AD0-1554-47B9-9DAC-F173315B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408-EC15-4F14-A22F-B1FED16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6B7-27A6-48AE-8431-F60878D0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8C6-D9F0-4296-8A57-0764F7FF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70D-3A88-4AE8-A8BF-7F77892D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8D1-610D-4CA1-AC0A-C092C7C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431-05AF-43CA-B7FB-F42A234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0B2-B29C-4177-89B4-98F6055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0DA-C5C3-47B4-A109-9A049D33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B3E-7457-4E89-BF36-7A2BB94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26F-0DA1-406E-BD96-5BF2CA9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A8D-7190-45B1-8092-2AE1CB4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8B71-B14F-4C14-96E3-3D60B8605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